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592-8C8D-4986-A6FC-E109E399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27F-D07D-453B-BA41-DF1A3A1D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750-B23C-4A84-BF30-3444B9EA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C41-D6CA-48F7-A93B-A9145F11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48C3-22E4-4C33-8CFE-B748F47A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4AAF-0827-4170-A4E1-8FFE2FBB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368-52AC-4D1F-8588-EC15040E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BE2C-1855-4A09-B5B1-7556816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BA7E-B3DC-4242-A1EB-CF51EF8B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9A4B-B45E-40D3-A6AA-4BBBA57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2F12-3C9A-40C1-8E1C-C0FD176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0CC-26C9-4543-ADF1-4D6212A0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C967-321E-4392-BD69-E2D01A2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9C42-1F6F-4C9B-BD0B-2A9082F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844E-B53A-4D5C-8E5B-E0DDB1DF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123F-EDB5-4C0C-80C3-698BA42E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573-10A8-4518-A285-392ECBC4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65C-8446-4EAB-B56A-0E9FEA54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B97-07C6-4503-9BAD-D4A3F77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E1C-571B-4A38-BE09-7634C89A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E0B-34D7-48AC-839F-4CCB464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D4E-5831-4842-97B0-50E5A7B4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BBF-B907-4565-BCD3-2975BE7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A48-09A9-4358-8BF8-F423350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D88-F0B2-4509-88EE-59069400D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D7D5-B657-4834-856A-6E4425D09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waytorussia.net/Moscow/GettingAround.html" TargetMode="External"/><Relationship Id="rId3" Type="http://schemas.openxmlformats.org/officeDocument/2006/relationships/hyperlink" Target="http://www.waytorussia.net/Moscow/GettingAround.html" TargetMode="External"/><Relationship Id="rId4" Type="http://schemas.openxmlformats.org/officeDocument/2006/relationships/hyperlink" Target="http://www.waytorussia.net/Moscow/GettingAround.html" TargetMode="External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morrisonworldnews.com/wp-content/uploads/2010/08/Russia-donates-250-buses-to-Nicaragua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farm4.static.flickr.com/3096/3162652288_15abcce6f8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ush Script MT"/>
              </a:rPr>
              <a:t>Russian Movemen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By: Sai Allu and Nhi Tru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Period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Ways of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Sub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i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Wal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Tr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riages pulled by hor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Inland Water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horsey"/>
          <p:cNvPicPr/>
          <p:nvPr/>
        </p:nvPicPr>
        <p:blipFill>
          <a:blip r:embed="rId1"/>
          <a:stretch/>
        </p:blipFill>
        <p:spPr>
          <a:xfrm>
            <a:off x="4038480" y="3276720"/>
            <a:ext cx="4800600" cy="31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train_front"/>
          <p:cNvPicPr/>
          <p:nvPr/>
        </p:nvPicPr>
        <p:blipFill>
          <a:blip r:embed="rId2"/>
          <a:stretch/>
        </p:blipFill>
        <p:spPr>
          <a:xfrm>
            <a:off x="6629400" y="685800"/>
            <a:ext cx="212724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Disadvant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Transportation takes a long and is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Goes through the Ural Mount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Inland waterways are important, but many long rivers drain north into the frigid Arctic Ocean and freeze in the wi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Snap ITC"/>
              </a:rPr>
              <a:t>Problem of the Land that Affects Transport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Russia is very large, so Trans-Siberian Railroad costs a lot of money. Especially from Moscow to Vladivost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Has very few roa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In the east part it is very mountai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Brush Script MT"/>
              </a:rPr>
              <a:t>Transportation in Mosc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Lucida Calligraphy"/>
              </a:rPr>
              <a:t>The metro is all one zone there is no special z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Lucida Calligraphy"/>
              </a:rPr>
              <a:t>The metro is open from 5:20 A.M to 1:00 A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Lucida Calligraphy"/>
              </a:rPr>
              <a:t>The rush hours for the metro in Moscow are 8:00 A.M. to 9:00 A.M. and 17:00 P.M. to 19:00 P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Getting around Moscow by metro and public transport |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aytorussia.net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0272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50272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Port C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4667040" cy="322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4681440"/>
            <a:ext cx="3271680" cy="217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48200" y="4370400"/>
            <a:ext cx="3295800" cy="248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8120" y="1066680"/>
            <a:ext cx="371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974600">
            <a:off x="533520" y="284004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uice ITC"/>
              </a:rPr>
              <a:t>      </a:t>
            </a:r>
            <a:r>
              <a:rPr b="0" lang="en-US" sz="6600" spc="-1" strike="noStrike">
                <a:solidFill>
                  <a:srgbClr val="ffffff"/>
                </a:solidFill>
                <a:latin typeface="Juice ITC"/>
              </a:rPr>
              <a:t>The End </a:t>
            </a: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6600" spc="-1" strike="noStrike">
                <a:solidFill>
                  <a:srgbClr val="ffffff"/>
                </a:solidFill>
                <a:latin typeface="Juice ITC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4191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Juice IT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18:07Z</dcterms:created>
  <dc:creator> </dc:creator>
  <dc:description/>
  <dc:language>en-US</dc:language>
  <cp:lastModifiedBy> </cp:lastModifiedBy>
  <dcterms:modified xsi:type="dcterms:W3CDTF">2010-12-20T19:43:36Z</dcterms:modified>
  <cp:revision>8</cp:revision>
  <dc:subject/>
  <dc:title>Russian Movement </dc:title>
</cp:coreProperties>
</file>